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2D4A-5999-4EDC-9C9C-7F51A77B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61AC-E09F-4DED-A8FA-CABBB8B6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7C81-4BCD-4153-A3FE-BBF83ACD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F8C4-AB13-4489-B0CF-089CB2AE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8430-B3C3-465F-B6A0-E1990205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D2AF-3654-4735-AD7D-A7E5140E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EF7F-EA53-4399-B3B7-BA2504E5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25F5-40B5-48D1-AB68-DF90DC02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1D13-3A1F-4424-BF72-3255E8DF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4446-AD47-4CC8-90BE-653623FB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E972-193D-41ED-9EBC-CDE303A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5523-E97C-4821-8C38-CEB0AF27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FC9D-BBA7-4D3D-94A1-3C2D7A93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AFE1-80BD-4887-89EC-1748779D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BF9C-FEE8-4DCF-A0E8-36768AAD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0BBC-E231-4281-8AB6-CE15AAA9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DF7B-3809-44BD-A446-2CA4DD4C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1B64-409C-4FB6-97FE-A0639496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4553-EFDC-475B-86BC-D0C947AD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EE48-E754-41BB-BA68-07739B86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62050-13B0-4433-BB22-5AB8495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5ED0-D801-4AA8-BB57-395991C9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8EDA-052D-4AF7-A2CD-4F4C7253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A2F3-5474-4144-BF23-B4F1DC8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E0C7-5B75-4676-922A-6BFFD2D79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2721-865F-44B0-AAA1-22BD0C42C4D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0D2A-3751-441D-AD2F-85184017D9C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302F-B7AB-4C4E-B567-AFCDF5D3A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A2B6-C53F-406E-AF8B-2C5444426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A4DD-5D4D-4CFC-AC5D-E037F4E5E75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Bevel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7FAE-9E3F-4007-B7FC-D9AAE8C1EE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7032-3344-4911-A298-910B262F67C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gọi, thời gia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ội d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hực hiệ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5"/>
          <p:cNvSpPr/>
          <p:nvPr/>
        </p:nvSpPr>
        <p:spPr>
          <a:xfrm>
            <a:off x="304920" y="33480"/>
            <a:ext cx="8458200" cy="1490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2. 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B7AD-2361-42F9-8EA6-4544A1ADE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39DB-0E5F-4C65-8FD9-C8F1BF226A2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7" name="Picture 2" descr="http://www.khtc.ueh.edu.vn/Upload/TinTuc/ngansach.jpg"/>
          <p:cNvPicPr/>
          <p:nvPr/>
        </p:nvPicPr>
        <p:blipFill>
          <a:blip r:embed="rId1"/>
          <a:stretch/>
        </p:blipFill>
        <p:spPr>
          <a:xfrm>
            <a:off x="4552920" y="0"/>
            <a:ext cx="459108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pleiku.gialai.edu.vn/upload/editor/image/NH%202010-2011/157_SGD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D111-ACA3-480A-A055-FFE268581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572F-C7E1-4E77-ABEA-AE39DE49866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ủa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ý do tiến hành hoạt độ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ời gian, phạm vi tiế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3. 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2FB9-BC81-4A11-95CD-D0932AB80A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B758-A728-459C-91E3-DF5A5074058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6" name="Picture 2" descr="http://www.lhu.edu.vn/Data/News/232/images/imageas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7" name="Picture 4" descr="http://forum.duytan.edu.vn/Uploads/5d012f50-a812-41ae-82f4-aef0fe54d287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88" name="Picture 6" descr="http://www.vinacorp.vn/Upload/News/image/CTCP%20%C4%90%E1%BA%A1t%20Ph%C6%B0%C6%A1ng%20-%20Thong%20bao%20tra%20co%20tuc%20dot%202-sua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www.dlu.edu.vn/ImageUpload/2012322104218455scan0021.jpg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0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7A95-0020-42E1-BEB2-EE63B3E63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2410-8C38-4C3D-BD1C-32263691FD2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4" name="Picture 2" descr="http://haugiang.edu.vn/UserFiles/HEAD733/Image/Picture%2001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95" name="Picture 4" descr="http://www.vidipha.com.vn/tu%20lieu/DHCD%202012/chu%20ky%20moi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0377-F33D-4F88-8EF7-9BCEB2B42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BB39-D028-499D-9E40-826F619C9AC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thông bá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nhiệm vụ được gi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yêu cầu khi thực hiện nhiệm v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iện pháp cần áp dụng để hoàn thành nhiệm vụ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. 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21A1-91B0-41F5-9FD5-31A70DC3A5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587D-24BA-48E2-9006-B8F66A953B5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3" name="Picture 2" descr="http://amc.edu.vn/Upload/Thong-bao-tap-chung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04" name="Picture 4" descr="http://www.shs.com.vn/Sites/QuoteVN/SiteRoot/documents/Doc/Thong%20b%C3%A1o%20website-%20VRG1.pn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5" name="Multiply 5"/>
          <p:cNvSpPr/>
          <p:nvPr/>
        </p:nvSpPr>
        <p:spPr>
          <a:xfrm>
            <a:off x="2209680" y="0"/>
            <a:ext cx="4724640" cy="6858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1896-4D7B-42FC-9149-4524B22A6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A676-30D5-4E9A-8CDD-18CD452FC65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91B5-2DB6-47A3-8AD6-FD6943EB6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0BBD-722A-471C-9276-C85B0849E0B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BÁ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………...............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Kính gởi: ……………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môû ñaàu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Muïc ñích, chuû theå, thaåm quye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noäi dung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Nhöõng nội dung caàn thoâng baùo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Phaàn keát thuùc:</a:t>
            </a:r>
            <a:r>
              <a:rPr b="0" lang="en-US" sz="2000" spc="-1" strike="noStrike">
                <a:solidFill>
                  <a:srgbClr val="000029"/>
                </a:solidFill>
                <a:latin typeface="VNI-Times"/>
                <a:ea typeface="Times New Roman"/>
              </a:rPr>
              <a:t> Yeâu caàu thöïc hieän, thôøi gian toå chöùc vaø hieäu löïc thi haønh, quy taéc xöû söï seõ ñöôïc aùp duïng neáu vi phaïm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3657600" y="274320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TB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hư trên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2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rame 13"/>
          <p:cNvSpPr/>
          <p:nvPr/>
        </p:nvSpPr>
        <p:spPr>
          <a:xfrm>
            <a:off x="-76320" y="0"/>
            <a:ext cx="9220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C2F1-947F-4C06-9152-7DDAF0103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7524-87BD-4122-9363-60DD1D7C8CF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52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của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ấu trúc của thông báo và những nội dung chính của các loại thông bá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ông báo của GĐ Cty TNHH Hòa Bình gửi Phòng Đăng ký kinh doanh – Sở KH&amp;ĐT TP.HCM và Chi cục Thuế quận Gò Vấp về việc thay đổi địa chỉ trụ sở Cty. (30 phút)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28526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 TRÊN LỚ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802E-A6A3-47F7-9973-9DEDA13BE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B8D-32E6-4E1F-B435-D2E73550653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30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BÀI 2</a:t>
            </a:r>
            <a:endParaRPr b="0" lang="en-US" sz="5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RÌNH BÀY THÔNG BÁO</a:t>
            </a:r>
            <a:endParaRPr b="0" lang="en-US" sz="5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AFFD-991B-4892-A447-A9A263478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DC0A-972D-436E-91FA-32A50BB6FC6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50292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Yêu cầu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loại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ài tậ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1" name="Picture 6" descr="http://choigame24h.net/thanh-cat-tu-han/wp-content/uploads/2012/11/thong-bao.png"/>
          <p:cNvPicPr/>
          <p:nvPr/>
        </p:nvPicPr>
        <p:blipFill>
          <a:blip r:embed="rId1"/>
          <a:stretch/>
        </p:blipFill>
        <p:spPr>
          <a:xfrm>
            <a:off x="5486400" y="1143000"/>
            <a:ext cx="32004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2" name="Frame 7"/>
          <p:cNvSpPr/>
          <p:nvPr/>
        </p:nvSpPr>
        <p:spPr>
          <a:xfrm>
            <a:off x="380880" y="1066680"/>
            <a:ext cx="8305920" cy="53341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5C10-3C01-4D58-88F2-D8BDF39C3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1CAD-427C-4473-A849-E95D5D2AAD8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52578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à loại văn bản hành chính đa nă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quyết định, tin tức,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về hoạt động của CQ,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uyền đạt chủ trương, chính sá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8" name="Picture 6" descr="http://cite.ueb.edu.vn/sites/default/files/thongbao_4.jpg"/>
          <p:cNvPicPr/>
          <p:nvPr/>
        </p:nvPicPr>
        <p:blipFill>
          <a:blip r:embed="rId1"/>
          <a:stretch/>
        </p:blipFill>
        <p:spPr>
          <a:xfrm>
            <a:off x="5791320" y="990720"/>
            <a:ext cx="291456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AFD2-9452-4AA9-A7CA-487C4E58A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90EF-F57B-4D1B-B4D7-870B93FCB57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ông tin nhanh chóng, kịp thờ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ắn gọn, cụ thể, dễ hiể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ông lập luận, nhận định dài d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rõ nội dung cần thông b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 mục đích và thẩm quyền ra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YÊU CẨU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4" name="Picture 6" descr="http://us.123rf.com/400wm/400/400/snake3d/snake3d1103/snake3d110300038/9099154-propaganda-megafono-annunciare-originale-elegante-altoparlante-colorato-notizie-multimediali-blog-on.jpg"/>
          <p:cNvPicPr/>
          <p:nvPr/>
        </p:nvPicPr>
        <p:blipFill>
          <a:blip r:embed="rId1"/>
          <a:stretch/>
        </p:blipFill>
        <p:spPr>
          <a:xfrm>
            <a:off x="4572000" y="4419720"/>
            <a:ext cx="4114800" cy="1981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142B-0AA2-44C1-B482-97B4A1E8A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A7FE-C81F-4DAA-BC38-D5DC3C92E2C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mở đầu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êu mục đích, chủ thể, thẩm quyền ra thông báo, đối tượng nhận thông bá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3124080"/>
            <a:ext cx="8229600" cy="838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nội dung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Nội dung cần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i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ần kết thú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Nhấn mạnh nội dung cần thông báo, xác định thời hạn có hiệu lực và quy tắc xử sự sẽ áp dụng nếu có vi phạm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9"/>
          <p:cNvSpPr/>
          <p:nvPr/>
        </p:nvSpPr>
        <p:spPr>
          <a:xfrm>
            <a:off x="457200" y="10666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mở đầ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Horizontal Scroll 10"/>
          <p:cNvSpPr/>
          <p:nvPr/>
        </p:nvSpPr>
        <p:spPr>
          <a:xfrm>
            <a:off x="457200" y="3048120"/>
            <a:ext cx="35053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Horizontal Scroll 11"/>
          <p:cNvSpPr/>
          <p:nvPr/>
        </p:nvSpPr>
        <p:spPr>
          <a:xfrm>
            <a:off x="457200" y="4038480"/>
            <a:ext cx="35053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 kết thú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1C08-03B4-4100-85D2-D493DFBDFA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B574-3D55-40B7-8CCF-E271E9B3A6E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CÁC LOẠI THÔNG B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380880" y="11430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380880" y="243828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380880" y="373392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380880" y="5029200"/>
            <a:ext cx="1219320" cy="11430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14264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sự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1676520" y="243828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văn bản mới, chủ trương, chính s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Title 1"/>
          <p:cNvSpPr/>
          <p:nvPr/>
        </p:nvSpPr>
        <p:spPr>
          <a:xfrm>
            <a:off x="1676520" y="373392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hoạt động 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1676520" y="5029200"/>
            <a:ext cx="701028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ông báo về nhiệm vụ được gi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1FCE-E251-4CE3-BC21-C1A3CB996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9009-82BF-494D-AB69-AE9932F040A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nghị, hội chợ, triển lãm, sự kiện, vụ việc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hính cần thông báo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hể tiến hành, mục đích, thời gian, thời hạn, địa điểm, thành phần, đối tượng tham dự…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, kết quả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1. THÔNG BÁO VỀ SỰ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06DD-D1A2-47E1-BE09-083B86BB6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0D31-1882-4FA1-8BE4-B11CCE5F91E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4" name="Picture 2" descr="http://www.ued.edu.vn/khoatamlygiaoduc/file.php/1/KHOA_TAM_LY_/TB_so_2_HNNCKH_DHDN_nam_2012.jpg"/>
          <p:cNvPicPr/>
          <p:nvPr/>
        </p:nvPicPr>
        <p:blipFill>
          <a:blip r:embed="rId1"/>
          <a:stretch/>
        </p:blipFill>
        <p:spPr>
          <a:xfrm>
            <a:off x="0" y="-9360"/>
            <a:ext cx="4572000" cy="68673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5" name="Picture 4" descr="http://ulsasontay.edu.vn/upload/images/hncbvc0001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166" name="Picture 6" descr="http://www.hcmuarc.edu.vn/upload/product/resize/1359001125_picture-220www.jpg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7" name="Frame 7"/>
          <p:cNvSpPr/>
          <p:nvPr/>
        </p:nvSpPr>
        <p:spPr>
          <a:xfrm>
            <a:off x="-7632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Frame 8"/>
          <p:cNvSpPr/>
          <p:nvPr/>
        </p:nvSpPr>
        <p:spPr>
          <a:xfrm>
            <a:off x="4495680" y="0"/>
            <a:ext cx="464832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9" name="Picture 8" descr="http://www.ueh.edu.vn/userfiles/image/ImgVanBan/P_TC-HC/Nam2011/1306_TB_DHKT.gif"/>
          <p:cNvPicPr/>
          <p:nvPr/>
        </p:nvPicPr>
        <p:blipFill>
          <a:blip r:embed="rId4"/>
          <a:stretch/>
        </p:blipFill>
        <p:spPr>
          <a:xfrm>
            <a:off x="0" y="152280"/>
            <a:ext cx="4572000" cy="655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1:00Z</dcterms:modified>
  <cp:revision>314</cp:revision>
  <dc:subject/>
  <dc:title>Chương 9.2</dc:title>
</cp:coreProperties>
</file>